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C7D-A35F-4BBA-8386-352FFE6C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AF9-5101-46E5-97CC-F112E5A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02E3D-DBEA-4326-AE0E-0953EC8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EA58E-EE29-4BC6-96F3-600034DE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FEB82-0BC2-4507-B2DD-8D95427A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56E46-8D06-4224-A89D-863361E7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55213-B133-4C79-BEE1-CAD1990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6575F-E361-4EA8-A7F8-EA59AC5A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33B77-B37F-46B5-A10A-0F6A3126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96BC8-788A-4CAA-AE92-0D50620E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8CE71-C0C5-442E-8F59-7F1F3E3E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18E15-5561-456A-93CF-8E1F99E4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67B-8FF4-4059-AC33-A0E48E4F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BF598-581A-4C7E-B45C-778BF59C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482ED-8D49-4F73-8E9F-0B64BA58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46764-EF17-45A7-8B39-818B9C76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337BA-F90A-4906-BBCB-B85DD5B8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F0FD6-9D07-4106-9174-83D6CED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A796C-6122-4E84-A65B-15CBC4F6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1FDF2-8BF9-459D-8449-5BA7FCD9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31A3C-27D8-41DA-8EAE-F80D7D0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4494A-2420-4F17-9ADE-A13B491F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C92DB-C387-4E8B-826A-2137D7D5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9FA-466F-4F7A-A9F0-8E4682F5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7945A-C6FA-4C32-8931-6B8F9D64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1116D-1097-4901-9D1D-C4BE03F1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AA8EA-F3FE-4392-BD60-D2FB5449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8D989-5521-4093-BC30-F9BF0AB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49345-9DFA-49C8-BFB9-03E4FA8B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373A9-4783-46E1-A529-D683094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47214-01DE-45ED-B3C7-463D882B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21B19-D3DF-42AF-8A67-7EE7B6BC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2E2C2-8A8B-4219-8EA9-81DA0DA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A5667-CE5D-4B88-BDC7-F6FF807C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69D-D537-41D4-8DF3-FE0828C8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43810-9F8B-41E2-8352-08E01407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A8BA9-B12E-44AF-B40D-CE9432AE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6E1A3-11B9-4E1B-9231-C0A5D8EC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5E6A6-BF73-40F7-8A91-1503DA2D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91C90-4614-41F2-8E28-7B41D65A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B4B9E-0727-4C48-9D8B-2E1C24B0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C6B3F-F61A-44A9-A073-17796458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9107F-4F24-4E57-A303-39FF1190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FB327-DC43-4B55-A09F-501CEEAD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3AFFC-2B76-4DB4-8B34-34855FD2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5536-9CCB-4F73-8AE2-DEF2EFDC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9C9D2-331F-42EE-B9C2-BEA4C5D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92742-9E3E-4D35-A075-DA03CC3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54280-5AA8-4181-B168-29293DC9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4AAE9-200E-4DAA-B1F2-FF73C675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42473-AA75-4FE7-AE62-A37440A1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D3CF-2C6E-4077-ADDC-DE931A30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223A-1782-4EC9-8427-9B36A3BA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6446-51A0-4742-A4B6-B90193D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633C-610E-4391-B6C2-558023F3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FEEF-4CBE-4DFB-BDDB-6EF4A48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022-EFD7-4CC1-82C3-2DD256FB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3231-14E6-458D-B544-19095392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9328-89A8-400B-BF63-19D7C2AA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BBA-B246-4DF9-9BE7-5A458644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2C83-5E7F-4785-A139-C5D33752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74A5-79A1-4EF4-8A3E-03D13DD6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AAEF-34B1-4BE7-B037-B9ADE2A0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150F-90EA-4EE5-A118-99B87036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5759-8512-4599-936C-23C29D5C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EE0A-92E1-40B1-8FAC-38DE7C12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FCFE-CFF7-46C9-90EA-227B5AC9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080-1561-4FE3-835B-94379E17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99AA-BD0E-4A79-B75C-F4DC9BE3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801A-5C7D-4FB7-B709-A55CFB3D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1E7B-71C0-48BF-91C1-C594B6C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C75F-123E-4BDA-AD91-1C316B9D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143D-764F-4238-A45C-E43D833D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60CD-B70F-4E95-9F9D-3FAC6C50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EB91-9038-4790-A348-2899A4C9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6F24-1FE5-4623-9B0C-94CE59D8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21B4-C301-4EE5-B260-0252AB04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E6BF-BA32-4DE3-BB52-57CEEB34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2FA-E3EF-4FB6-A664-86BD5273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CD67-A4D1-441B-A788-7B7ABB28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42D2D-B6A2-46D4-9229-9C71F4E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BD6F2-D1F1-4195-A3BF-FA1BA74A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2D71-920D-4EA3-9777-0C2EDF5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5D09-E433-473F-A982-8DC2716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1936D-56B4-4C07-8ED6-B8336802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F8395-1585-45A6-8B21-DEEAF743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A02EF-B7AF-46C3-AE3D-CF44853B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9DD4-C042-484A-B25E-BF3DFBC5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0F42-8DDE-4AA3-8FE3-AB941987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1F0-2FA9-4D70-8C4E-1749A4A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78E8-EA08-42F7-8288-101A882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081D5-EA30-448A-AB11-2E107607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01BDE-C462-494E-B867-1E4A1E6B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2B88-6B9E-428F-AC25-EF22E996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89EF1-2F4F-4306-A39A-4AF4CFDD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EBAE1-EAF4-44C7-9214-3A2F6845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4F52E-3820-42BE-B698-1B8825EE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5B707-0488-4D50-A6CC-4DAD755A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5F84-03F9-4E59-A60A-5606F24D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01B2-2BA4-4D75-8D39-8FF789B6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B91-7955-49CA-ABE7-644D8C8F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4E0CC-98C7-4D20-A80E-3B5409AA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00B8E-18B9-4B61-8DCF-F17E0C6A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8B24-7239-4914-BA24-FCADDB5A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75150-5916-43E0-B79E-3103E42F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1E2C7-6180-4806-9A9A-490DD8D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32548-DE4F-47D0-A481-9E00C9E5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ED50B-6042-4585-ACDA-4D748567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9C2D-3506-400D-8D92-5AE3A30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24605-21AA-432C-9FE2-9B0253F3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1D81-BAB7-415C-9371-F4AA7E6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A50-5DE5-4642-AED4-84B4152A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ED2E5-0792-452F-9666-DC5FD04E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BF32A-B20A-4DA0-A3AD-EC0519C9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08EC6-D7FE-4E30-988C-703B3698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5A503-69B6-4858-95C8-009D882D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0C695-C9F0-48C7-BACA-E175A95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30AFE-65D3-47B0-ACB3-76A2146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B5D1-90F3-410A-8196-A1DB3F25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4051-FCFE-4378-9781-49B5D66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C348-9EA5-46F2-BAFF-DF14DA3F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2294A-1F3D-499F-AC2D-CAF92EC4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C46-072C-4D8C-9C9E-13D7804C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BDFDA-06D8-4DDC-9126-5146D55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84A5-BE61-45D5-A80C-21B7160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69B78-5EC8-49D2-9AB4-67AB3701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D2EA3-15DF-435C-8B4E-6D908DCE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02545-14C7-4214-82BE-064CFB25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8AE0D-B88F-4D1D-A1CF-5EE25382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E4157-F085-4C1C-802B-DC7A1A1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6F7D8-CC89-457E-BE81-F210B567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2B966-B046-4199-8D92-87DCE69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36D7E-0C32-4A4F-B2DC-95E4F23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AE2-207A-409C-B3E4-AF85265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AEDA-85B4-40BE-BCC9-688DBDDB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FD3D9-F9D3-4965-A00E-9D923592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F05E0-C0C7-4EC0-AEDE-49A9D89E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C20F9-7BAE-4770-BF0C-67D824CA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24528-A575-4642-AD3C-E525513B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68D70-F99A-4B10-901B-64123AFB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3693F-7240-4EB4-85C8-180675EA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4413B-5B1D-49CC-8269-DFCCE560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1AF92-CC83-45D7-9755-8CBAE01A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4EE22-E074-43EC-89F4-7101FC0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14C4-4383-4D45-97C1-71556C626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9F21-5B63-4796-B16B-5703D7C2B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232F-C23A-41C1-BC51-390F0EDDE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A1B5-C256-45EF-9BD7-57160635A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9226-CD00-4029-8F60-57229AB767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3AE8-70E5-4964-93AA-947567FD53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7FC3-921A-4BF5-89DE-CF165F85F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BE92-B0B2-4D64-BE06-DAC569BC1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48E0-9F5F-46D3-AE03-C24601CBC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3999-4557-4D27-BDD1-AD638DFC1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C239-F71E-4C9A-B6C6-6B8520793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253B-5624-403A-8C28-1097690CF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ятаева</cp:lastModifiedBy>
  <dcterms:modified xsi:type="dcterms:W3CDTF">2013-06-21T18:02:05Z</dcterms:modified>
  <cp:revision>49</cp:revision>
  <dc:subject/>
  <dc:title>Дети - герои ВОВ</dc:title>
</cp:coreProperties>
</file>